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2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03B1-4752-42B7-971E-89B17D8F1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FE28-B1B5-4B24-9E11-559786EFB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E505-9254-4F68-9FFF-0BBEF3C16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4D61-14C6-44F4-A77B-5F0962E36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BFF7-8283-4D9E-9870-87D211FB0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A20A-B7BA-4E11-B0DD-5B99BF529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7A15-E2C3-4317-9D9E-03C2D4966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6496-211A-4821-9285-EF7B68817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CCDE-93FA-45BE-98FF-D940997AA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A2B4-C53E-4D57-AFA0-AEBAF2540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ADE8-F2DC-48BE-9EBC-073AF5318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3B6E-154A-42F5-ADD6-915CCC1AD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5987-2912-4B40-AAA4-DEDA621CFF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Arial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1676520" y="3352680"/>
          <a:ext cx="2019240" cy="24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352680"/>
                    <a:ext cx="20192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4356000" y="2276640"/>
            <a:ext cx="4114800" cy="2286000"/>
          </a:xfrm>
          <a:prstGeom prst="cloudCallout">
            <a:avLst>
              <a:gd name="adj1" fmla="val -66203"/>
              <a:gd name="adj2" fmla="val 15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unctions are like parties, ye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0C25-FF8A-47C9-B3BB-2B07D2F155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3715920"/>
            <a:ext cx="83822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each of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476280"/>
            <a:ext cx="343080" cy="342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012000" y="981000"/>
            <a:ext cx="546120" cy="5716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940360" y="1773360"/>
            <a:ext cx="436320" cy="412560"/>
            <a:chOff x="5940360" y="1773360"/>
            <a:chExt cx="436320" cy="412560"/>
          </a:xfrm>
        </p:grpSpPr>
        <p:sp>
          <p:nvSpPr>
            <p:cNvPr id="72" name="Gear"/>
            <p:cNvSpPr/>
            <p:nvPr/>
          </p:nvSpPr>
          <p:spPr>
            <a:xfrm>
              <a:off x="6182280" y="1773360"/>
              <a:ext cx="194400" cy="18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0360" y="1851120"/>
              <a:ext cx="232560" cy="22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1200" y="1934640"/>
              <a:ext cx="258480" cy="25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012000" y="2421000"/>
            <a:ext cx="571320" cy="79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20000" y="476280"/>
            <a:ext cx="1600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1052640"/>
            <a:ext cx="148572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1844640"/>
            <a:ext cx="21178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2637000"/>
            <a:ext cx="13557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55640" y="404640"/>
            <a:ext cx="4968720" cy="27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1061-B74D-4236-B3FE-C6F62321C9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Market Tow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 Towns tend to have the following featu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in a fertile farming are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services e.g. shops and offi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transport links - often they are route cent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may be at the site of important bridges. Often mills were built on the riv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places in the town centre; Markets may no longer be held 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DE67-D954-49E1-A710-8FA4B4A15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odel of a market tow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395360"/>
            <a:ext cx="7321680" cy="51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E86D-A3B7-4A0C-9926-0EB959FBBE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ap of Kelso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6" name="" descr="Kelso Map (41 kb)"/>
          <p:cNvPicPr/>
          <p:nvPr/>
        </p:nvPicPr>
        <p:blipFill>
          <a:blip r:embed="rId1"/>
          <a:stretch/>
        </p:blipFill>
        <p:spPr>
          <a:xfrm>
            <a:off x="1187280" y="1844640"/>
            <a:ext cx="7000920" cy="30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C8A8-AEA0-453C-9859-3F39DF59C9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475920"/>
            <a:ext cx="838224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of a market town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l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cottish Borders, which is shown on the map below . It is similar to the model as it is a bridging point over a river, is in a farming areas and has good transport lin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to the model as it does not have a railway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DEB3-83C3-4BD0-9B79-6775DB5149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Port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s tend to have the following featu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nd where there are sheltered harbou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t land for building on near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rn ports need deeper water for today's larger shi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ports have gone through a lot of redevelopm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rgest ports are found where there is a major industrial area inland that needed a place to import and export its g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66B1-4AD6-4D73-A3AC-22FFCA29C3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 model of a por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41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FE46-B6AE-4400-B61C-2CB414C18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764640"/>
            <a:ext cx="838224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of a port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ver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north-west of England, which is shown on the map below . It is similar to the model as it is has a sheltered harbour, is built on flat land, and the newer docks are found downstrea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from the model as Liverpool is only built on one side of the River Mers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7FAC-6F2A-4706-88EF-8663DB1EE1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iverpool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1265400"/>
            <a:ext cx="6912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9BAD-8106-41EC-9108-AE7CAB2D53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Industrial tow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Old" Industrial Towns tend to have the following featu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on or near coalfiel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railways and canals for transpor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housing and industry mixed in toge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er industry is found on the outskirts, near main roads for trans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newer industrial towns planning ensures the housing and industry are located apar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DEDD-4FA9-4F9B-8860-521A5ECFD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a2266"/>
                </a:solidFill>
                <a:uFillTx/>
                <a:latin typeface="Comic Sans MS"/>
              </a:rPr>
              <a:t>FUNCTION INTRODUC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week, we talked about the kinds of reasons that towns and villages WERE sited and situated and also the settlement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eek we are going to look at the purposes or functions they fulfil 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t settlements have different functions (e.g. resort, port, market town, industrial town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5811840"/>
            <a:ext cx="2016000" cy="891000"/>
          </a:xfrm>
          <a:prstGeom prst="wedgeRoundRectCallout">
            <a:avLst>
              <a:gd name="adj1" fmla="val -95898"/>
              <a:gd name="adj2" fmla="val -6591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s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F939-BBE9-4791-95FD-FF0EEA020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345440" cy="395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18D3-6E4D-4ED2-A99E-A0D99980CC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arnsley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rns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in Yorkshire, Engl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imilar to the model as it is built on a coalfield and has can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different from the model as it has good motorway lin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419-8B04-4E33-BCB4-00840D510E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arnsley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05672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580C-3649-4538-BCEF-7375619919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Besides ports, resorts,  market towns or industrial towns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other functions can you think of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BA5C-5946-4423-859F-27D41CC7D3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67920"/>
            <a:ext cx="838224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dential – a major function of many settlements is to give people a place to liv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ome places, this is the main function, as there are few services and no industr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se are known as dormitory towns or commuter tow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?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other sort of residential function is one that concentrates on serving retires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Frinton near Lond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parts of Florida in America – these places will have services but those needed particularly by the elde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205D-7D7C-4D3D-BA87-4C601B3D26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rative  - such as county towns that employ a large number of people as civil servants and are centres of local gover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, where is your local government cent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4764-8FF6-447F-BE81-574CB5B20E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rcial or retail – shopping centres and recreation facilities, such as sports centres and cinemas, provide services for peop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usually have good transport links so that people come from the surrounding districts to use the facil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there a commercial centre near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D8B6-AFE0-4B57-AB0F-B9A7E01EDA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s – such as schools, universities, regional hospitals and libraries, such as Oxf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rism –  we have mentioned seaside resorts already. But there are others types of tourist settlement. Many settlements in National Park also have a tourist function. Also major cities such as London and Paris also fulfil a tourist f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hink of tourist centres near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0741-36E9-4D75-9891-20E6D8B625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631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tail change: town centres decline as supermarkets and larger shops move out of town to retail pa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s in planning policy –’brown field sites’ such as old abandoned industrial areas are being redeveloped for housing and leis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 Docklands in Lond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69F2-BDDF-401A-B317-6B133A8CD0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Settlement function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631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change – for example more people can afford to go abroad so typical seaside resorts like Blackpool and Morecombe have decli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ing villages in Spain have become tourist resorts inst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oth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6C26-41DB-401E-A12D-4CB54C422A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s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105440" cy="340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19640" y="2060640"/>
            <a:ext cx="2881440" cy="2089080"/>
          </a:xfrm>
          <a:prstGeom prst="wedgeRoundRectCallout">
            <a:avLst>
              <a:gd name="adj1" fmla="val -91763"/>
              <a:gd name="adj2" fmla="val 1527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 town. My husband runs a farm. This is where we come to buy and sell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RT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0098-5B2B-4A94-9352-AEFD9C4C82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know places that have different main func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think of indicators that show that you choice of main function is reason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think of 4 – but if you are stuck, 3 will be fin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328B-0CAE-4A0B-A3BD-E8FF2325DC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557360"/>
            <a:ext cx="2881080" cy="2089080"/>
          </a:xfrm>
          <a:prstGeom prst="wedgeRoundRectCallout">
            <a:avLst>
              <a:gd name="adj1" fmla="val 74847"/>
              <a:gd name="adj2" fmla="val 501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n __________ town. I use things produced from farmers to make other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PORT   HOLIDAY RESORT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3640" y="1860480"/>
            <a:ext cx="3384720" cy="24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4681-6B6A-481A-B2B7-A4329EE34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1557360"/>
            <a:ext cx="3673440" cy="2089080"/>
          </a:xfrm>
          <a:prstGeom prst="wedgeRoundRectCallout">
            <a:avLst>
              <a:gd name="adj1" fmla="val -82759"/>
              <a:gd name="adj2" fmla="val 1337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_. This is where people and goods leave our country and arrive from other plac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HOLIDAY RESORT   MARKET   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338472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1A0D-11CE-48D6-B6A3-4F2C9EFB1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2266"/>
                </a:solidFill>
                <a:latin typeface="Comic Sans MS"/>
              </a:rPr>
              <a:t>What kind of town does he live in?</a:t>
            </a:r>
            <a:endParaRPr b="0" lang="en-US" sz="36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557360"/>
            <a:ext cx="3673440" cy="2089080"/>
          </a:xfrm>
          <a:prstGeom prst="wedgeRoundRectCallout">
            <a:avLst>
              <a:gd name="adj1" fmla="val -82759"/>
              <a:gd name="adj2" fmla="val 1337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a __________. This is where people come from other places to relax and enjo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8497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USTRIAL  HOLIDAY RESORT   MARKET   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23840" cy="19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F14A-0BB4-4A30-AD07-7CD2D02041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Where are we mostly likely to find these?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12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F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AL M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port, an industrial town, a market town or tourist resort? (the answer maybe all of them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A957-1699-405A-B075-4363EBEA18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ve already learnt that we find certain types of buildings along with certain types of func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factories are found in industrial settlemen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can say that a factory is 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ICAT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n industrial sett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 – INDICATOR – a person or object that shows us the function of a settl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C840-F5E4-44E5-99B9-DE7DCEFD8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What kind of things would be indicators of these settlement function types?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844640"/>
            <a:ext cx="8382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OPS, FARMERS, TRADERS, PRODUCE, TRANS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indicators of a market town fun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be indicators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dustrial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urist resor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3DBF-74D5-4643-9B07-4629C50A8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00:47Z</dcterms:created>
  <dc:creator>PC USER</dc:creator>
  <dc:description/>
  <dc:language>en-US</dc:language>
  <cp:lastModifiedBy>Lindy</cp:lastModifiedBy>
  <dcterms:modified xsi:type="dcterms:W3CDTF">2008-11-06T22:09:48Z</dcterms:modified>
  <cp:revision>6</cp:revision>
  <dc:subject/>
  <dc:title>Settlement functions</dc:title>
</cp:coreProperties>
</file>